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FC9-1533-48DA-A906-E11CCD13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83A-ADC2-455D-91F7-2F8B4EC8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F55-984D-482D-95C4-EED9129F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0D9-20F9-4F80-B4E2-9207D7AD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A351-19DC-42C4-BD5F-1DB0F3DA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DDD1-A520-4337-BA07-1A6FFA3C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E3CA-C858-4DEE-91F3-EC0DEE77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E2E1-F357-49EE-ADBD-CA2D60F2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979B-4581-469C-B0B1-0F461E98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AD5B-5610-4BFD-95FE-32047881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1E5F-23B2-431D-921D-49D5235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4F2-C7DA-4945-9DDC-D9CC8DC7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27C3-CB98-47F2-8F1F-7143594D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A237-00FF-4685-AE90-668EC31E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6A35-5386-4874-8B5D-0EC5434C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6333-FC9E-429A-A4D8-F1933F91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E002-3A9A-4556-9311-E99BDED6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4ED-A0CB-406F-BE5E-B1864853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12F-99C8-4DEC-A5C8-09A268B5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C82-E61C-461C-852C-F285F8CB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9B9-89F3-4497-B293-543B7122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84B-3791-4569-93C2-76ABE5E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D5B-4954-4408-BC2A-8E1D4918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1A4-16E2-4BA7-B3C2-1BD80115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4e5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8383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8383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74e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4e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F368-C8F3-423A-A448-34236A026C3B}" type="slidenum">
              <a:rPr b="0" lang="en-US" sz="1400" spc="-1" strike="noStrike">
                <a:solidFill>
                  <a:srgbClr val="374e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4e5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74e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4e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C68A-AECC-421B-AE52-F249451E6095}" type="slidenum">
              <a:rPr b="0" lang="en-US" sz="1400" spc="-1" strike="noStrike">
                <a:solidFill>
                  <a:srgbClr val="374e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ideshare.net/profelengua/el-barroco-54396/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4e5f"/>
                </a:solidFill>
                <a:latin typeface="Garamond"/>
              </a:rPr>
              <a:t>EL TEATRO BARROCO</a:t>
            </a:r>
            <a:endParaRPr b="0" lang="en-US" sz="5400" spc="-1" strike="noStrike">
              <a:solidFill>
                <a:srgbClr val="374e5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446120"/>
            <a:ext cx="3743280" cy="234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27640" y="3656160"/>
            <a:ext cx="4257720" cy="2795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7440" y="525780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404176"/>
                </a:solidFill>
                <a:latin typeface="Arial"/>
              </a:rPr>
              <a:t>Ruth Romero Estrad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3040" y="58309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176"/>
                </a:solidFill>
                <a:latin typeface="Arial"/>
              </a:rPr>
              <a:t>Junio de 2008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8000" y="623880"/>
            <a:ext cx="8966160" cy="55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374760"/>
            <a:ext cx="7991280" cy="60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384120"/>
            <a:ext cx="8748720" cy="606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74e5f"/>
                </a:solidFill>
                <a:uFillTx/>
                <a:latin typeface="Times New Roman"/>
              </a:rPr>
              <a:t>Estructura</a:t>
            </a: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Tablado / escenario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: donde actúan los actores; detrás vestuario y tramoya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Cazuela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: donde estaban las mujeres –de clase baja- (separadas de los hombres) // Posible origen  palabra: bullicio que había en ella; había un “</a:t>
            </a: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apretador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” que se encargaba de que todas cupieran…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en el patio: estaban los </a:t>
            </a: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mosqueteros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, gente que podía hacer triunfar / fracasar una obra (había gente que los “compraba” para que no hicieran barullo en sus obras o la competencia que les pagaba para que vituperaran…); comían, gritaban, arrojaban alimentos a los actores si no gustaban de la obra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Alojería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: puesto de bebidas y frutas (vendían alcohol…)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74e5f"/>
                </a:solidFill>
                <a:uFillTx/>
                <a:latin typeface="Times New Roman"/>
              </a:rPr>
              <a:t>Palcos y Aposentos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: balcones en el piso superior para los nobles y caballeros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Por este motivo el escenario nunca queda vacío, siempre se está escenificando ALGO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284720" y="2708280"/>
            <a:ext cx="71280" cy="2592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59280" y="4149720"/>
            <a:ext cx="1946160" cy="12240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74e5f"/>
                </a:solidFill>
                <a:latin typeface="Times New Roman"/>
              </a:rPr>
              <a:t>Calendario</a:t>
            </a:r>
            <a:endParaRPr b="0" lang="en-US" sz="2600" spc="-1" strike="noStrike">
              <a:solidFill>
                <a:srgbClr val="374e5f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74e5f"/>
                </a:solidFill>
                <a:latin typeface="Times New Roman"/>
              </a:rPr>
              <a:t>La representación empezaba a las 14h en invierno, a las 15h en primavera, a las 16h en verano, siempre en función de la luz solar. </a:t>
            </a:r>
            <a:endParaRPr b="0" lang="en-US" sz="2600" spc="-1" strike="noStrike">
              <a:solidFill>
                <a:srgbClr val="374e5f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74e5f"/>
                </a:solidFill>
                <a:latin typeface="Times New Roman"/>
              </a:rPr>
              <a:t>La obra duraba unas </a:t>
            </a:r>
            <a:r>
              <a:rPr b="1" lang="es-ES" sz="2600" spc="-1" strike="noStrike">
                <a:solidFill>
                  <a:srgbClr val="374e5f"/>
                </a:solidFill>
                <a:latin typeface="Times New Roman"/>
              </a:rPr>
              <a:t>3 o 4 horas</a:t>
            </a:r>
            <a:r>
              <a:rPr b="0" lang="es-ES" sz="2600" spc="-1" strike="noStrike">
                <a:solidFill>
                  <a:srgbClr val="374e5f"/>
                </a:solidFill>
                <a:latin typeface="Times New Roman"/>
              </a:rPr>
              <a:t>, tiempo durante el cual, la escena nunca quedaba vacía, hecho que inquietaría a los mosqueteros…</a:t>
            </a:r>
            <a:endParaRPr b="0" lang="en-US" sz="2600" spc="-1" strike="noStrike">
              <a:solidFill>
                <a:srgbClr val="374e5f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74e5f"/>
                </a:solidFill>
                <a:latin typeface="Times New Roman"/>
              </a:rPr>
              <a:t>La temporada teatral iba del domingo de resurrección al miércoles de ceniza (desde que acaba la Semana Santa hasta después de carnaval): sin embargo, trabajaban, en tanto que eran los días aprovechados para preparar nuevos temas, nuevas obras, pactar con las casas de teatro, arreglar contratos, condiciones laborales… </a:t>
            </a:r>
            <a:endParaRPr b="0" lang="en-US" sz="26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88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La estructura de una función era: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Loa,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9e4a"/>
                </a:solidFill>
                <a:latin typeface="Times New Roman"/>
              </a:rPr>
              <a:t>primera jornada (acto),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entremés,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9e4a"/>
                </a:solidFill>
                <a:latin typeface="Times New Roman"/>
              </a:rPr>
              <a:t>segunda jornada,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jácaras o mojigangas,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9e4a"/>
                </a:solidFill>
                <a:latin typeface="Times New Roman"/>
              </a:rPr>
              <a:t>tercera jornada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, y 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baile final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La vida de los actores era muy dura: de pueblo en pueblo siempre actuando aunque también tenían cierta fama de libertinos…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74e5f"/>
                </a:solidFill>
                <a:latin typeface="Times New Roman"/>
              </a:rPr>
              <a:t>Arte nuevo de hacer comedias</a:t>
            </a: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, Lope de Vega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LOPE DE VEGA y su libro </a:t>
            </a:r>
            <a:r>
              <a:rPr b="0" i="1" lang="en-US" sz="2000" spc="-1" strike="noStrike">
                <a:solidFill>
                  <a:srgbClr val="374e5f"/>
                </a:solidFill>
                <a:latin typeface="Times New Roman"/>
              </a:rPr>
              <a:t>El Arte nuevo de hacer comedias en este tiempo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 (1609), sentaron las bases del nuevo teatro que propiciarán el éxito de la nueva </a:t>
            </a:r>
            <a:r>
              <a:rPr b="0" i="1" lang="en-US" sz="2000" spc="-1" strike="noStrike">
                <a:solidFill>
                  <a:srgbClr val="374e5f"/>
                </a:solidFill>
                <a:latin typeface="Times New Roman"/>
              </a:rPr>
              <a:t>comedia nacional o nueva.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 A partir de entonces su manera de hacer teatro será constantemente imitada y admirada.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En la época la palabra </a:t>
            </a:r>
            <a:r>
              <a:rPr b="0" i="1" lang="en-US" sz="2000" spc="-1" strike="noStrike">
                <a:solidFill>
                  <a:srgbClr val="374e5f"/>
                </a:solidFill>
                <a:latin typeface="Times New Roman"/>
              </a:rPr>
              <a:t>comedia</a:t>
            </a:r>
            <a:r>
              <a:rPr b="0" lang="en-US" sz="2000" spc="-1" strike="noStrike">
                <a:solidFill>
                  <a:srgbClr val="374e5f"/>
                </a:solidFill>
                <a:latin typeface="Times New Roman"/>
              </a:rPr>
              <a:t> designaba cualquier pieza teatral.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374e5f"/>
                </a:solidFill>
                <a:latin typeface="Times New Roman"/>
              </a:rPr>
              <a:t>El arte nuevo de hacer comedias</a:t>
            </a: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 (II)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El libro está escrito en verso y se convirtió en el libro de cabecera de cualquier dramaturgo preciado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74e5f"/>
                </a:solidFill>
                <a:uFillTx/>
                <a:latin typeface="Times New Roman"/>
              </a:rPr>
              <a:t>2 objetivos básicos</a:t>
            </a: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: agradar al público y ser veraz / real, imitar la vida misma. 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El sacar provecho se resume en un tópico: “</a:t>
            </a:r>
            <a:r>
              <a:rPr b="0" i="1" lang="es-ES_tradnl" sz="2000" spc="-1" strike="noStrike">
                <a:solidFill>
                  <a:srgbClr val="374e5f"/>
                </a:solidFill>
                <a:latin typeface="Times New Roman"/>
              </a:rPr>
              <a:t>deleitar aprovechando</a:t>
            </a: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”, entretener al público a la vez que se ofrece una enseñanza. Muchas de las obras tenían un subliminal mensaje (político, propagandístico…)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Que la obra tuviera siempre un personaje “gracioso”, aunque ésta fuera trágica (normalmente como personaje secundario)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lvl="1" marL="179280">
              <a:spcBef>
                <a:spcPts val="499"/>
              </a:spcBef>
              <a:buClr>
                <a:srgbClr val="374e5f"/>
              </a:buClr>
              <a:buFont typeface="Times New Roman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Mezcla de personajes (reyes, caballeros, gente del </a:t>
            </a: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pueblo</a:t>
            </a: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, artesanos, clero…) – y sus lenguajes propios (</a:t>
            </a:r>
            <a:r>
              <a:rPr b="0" lang="es-ES_tradnl" sz="2000" spc="-1" strike="noStrike" u="sng">
                <a:solidFill>
                  <a:srgbClr val="374e5f"/>
                </a:solidFill>
                <a:uFillTx/>
                <a:latin typeface="Times New Roman"/>
              </a:rPr>
              <a:t>DECORO</a:t>
            </a:r>
            <a:r>
              <a:rPr b="0" lang="es-ES_tradnl" sz="2000" spc="-1" strike="noStrike">
                <a:solidFill>
                  <a:srgbClr val="374e5f"/>
                </a:solidFill>
                <a:latin typeface="Times New Roman"/>
              </a:rPr>
              <a:t>: cada uno debe hablar de acuerdo con su condición, como pasa en la vida real)</a:t>
            </a:r>
            <a:endParaRPr b="0" lang="en-US" sz="2000" spc="-1" strike="noStrike">
              <a:solidFill>
                <a:srgbClr val="374e5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LA COMEDIA NUEVA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División de la obra en tres actos o jornadas. Se corresponden con la exposición, el nudo y el desenlace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Mezcla lo cómico y lo trágico en la misma obra (gracioso)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Rompe la unidad de tiempo y lugar (varios días, varios lugares) y no cumple de manera estricta la unidad de acción (a veces hay varias intrigas paralelas que se entrecruzan y coinciden al final en un desenlace común)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Métrica variable (polimetría) Se expresan sobre todo en verso y la métrica se adapta a las situaciones. La variedad de métrica a veces sirve para diferencias escenas y actos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TEMAS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: Tratar todo tipo de temas: profanos, religiosos, histórico, legendarios, humorísticos… Lope se dio cuenta de que el público demandaba sobre todo obras con temas básicos como el AMOR y HONOR y fueron temas muy tratados en la dramaturgia barroca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Articular la obra de teatro en </a:t>
            </a: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3 ACTOS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 o jornadas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Durante el XVI las obras eran de 3-4-5 actos; Lope fija los actos en 3. Planteando así la estructura típica de introducción – nudo – desenlace y haciendo una buena gestión de la intriga de mantener que el público no pierda el interés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El espectáculo teatral alcanzó gran esplendor y popularidad en el siglo XVII. Se convirtió en la diversión más importante del pueblo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Como era un medio de influencia fue sometido a censura y críticas de los moralistas. Se utilizó para transmitir la ideología del poder monárquico (el rey hace valer los intereses del pueblo frente a los nobles tiranos)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Durante esta época el teatro se convierte en una actividad profesional, que cuenta con una amplia aceptación del público, por lo que se constituye como un negocio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Usar el </a:t>
            </a:r>
            <a:r>
              <a:rPr b="0" lang="en-US" sz="2500" spc="-1" strike="noStrike" u="sng">
                <a:solidFill>
                  <a:srgbClr val="374e5f"/>
                </a:solidFill>
                <a:uFillTx/>
                <a:latin typeface="Times New Roman"/>
              </a:rPr>
              <a:t>LENGUAJE </a:t>
            </a: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de la calle si el personaje lo requiere.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Se utiliza el verso para el teatro, dejando de lado la prosa.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Polimetría: tanto verso tradicional español como italianizante; sobre todo: redondillas, sonetos, romances, décimas, quintillas, silvas…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Lope intenta adecuar el metro al tema (romance para narraciones y diálogos; redondillas para situaciones cómicas; décima para las quejas; monólogo para la disertación;…)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El afán de realidad mandaba adecuar cada lenguaje con su condición social: el rey un lenguaje sublime, el artesano un lenguaje humilde… (decoro expresivo)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PERSONAJES: no aparecen demasiado caracterizados (tampoco era su intención), siguen esquemas fijos; la voluntad era hacer obras de acción… Por eso, la mayoría de actantes son personajes-tipo. Los más tipicos: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rey: soberbio, sabio, viejo… representa la justicia y el orden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poderoso – noble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caballero: puede ser padre, esposo, hermano, galán…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La dama y su criada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gracioso: es la contrafigura del galán, es práctico, realista,  irónico…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El bobo o donaire: a veces actúa como narrador de sucesos no presentes escena, otras sirvede vínculo con el público (apartes)…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411120"/>
            <a:ext cx="806436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920000" cy="61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8000" y="419040"/>
            <a:ext cx="8893080" cy="60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438120"/>
            <a:ext cx="856908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249120"/>
            <a:ext cx="82803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6000" y="260280"/>
            <a:ext cx="8748720" cy="62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3080" y="457200"/>
            <a:ext cx="30942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LOPE DE VEGA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906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ctura pequeña biografía p. 285.</a:t>
            </a: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 Fue un escritor muy prolífico (poesía, teatro, novela), aunque lo más destacado de su obra será el teatro; en poesía, rivalizó con Quevedo y Góngora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Times New Roman"/>
              </a:rPr>
              <a:t>Fue un hombre muy querido por su pueblo. Lo despidió una multitud de hombres y mujeres el día de su entierro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3048120" cy="4152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360" y="5300640"/>
            <a:ext cx="799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74e5f"/>
                </a:solidFill>
                <a:latin typeface="Times New Roman"/>
              </a:rPr>
              <a:t>Obras de teatro: </a:t>
            </a:r>
            <a:r>
              <a:rPr b="0" i="1" lang="es-ES_tradnl" sz="2400" spc="-1" strike="noStrike">
                <a:solidFill>
                  <a:srgbClr val="374e5f"/>
                </a:solidFill>
                <a:latin typeface="Times New Roman"/>
              </a:rPr>
              <a:t>Fuente ovejuna, Peribáñez, El caballero de Olmedo, La dama boba…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TIRSO DE MOLINA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60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En realidad se llamaba Gabriel Téllez; Tirso de Molina era un seudónimo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Fue un gran seguidor de Lope de Vega; en su teatro introduce innovaciones que abren camino a la renovación que llevará a cabo Calderón de la Barca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Su obra más importante fue </a:t>
            </a:r>
            <a:r>
              <a:rPr b="0" i="1" lang="ca-ES" sz="2400" spc="-1" strike="noStrike">
                <a:solidFill>
                  <a:srgbClr val="374e5f"/>
                </a:solidFill>
                <a:latin typeface="Times New Roman"/>
              </a:rPr>
              <a:t>El burlador de Sevilla</a:t>
            </a:r>
            <a:r>
              <a:rPr b="0" lang="ca-ES" sz="2400" spc="-1" strike="noStrike">
                <a:solidFill>
                  <a:srgbClr val="374e5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74e5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80000" y="1978200"/>
            <a:ext cx="32385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En el s.XVI-XVII nos encontramos con distintas variantes de teatro: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Teatro religioso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: que continúa el drama litúrgico medieval y que deriva en el Barroco en los </a:t>
            </a:r>
            <a:r>
              <a:rPr b="0" i="1" lang="en-US" sz="2800" spc="-1" strike="noStrike">
                <a:solidFill>
                  <a:srgbClr val="374e5f"/>
                </a:solidFill>
                <a:latin typeface="Times New Roman"/>
              </a:rPr>
              <a:t>Autos Sacramentales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Teatro cortesano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: el gusto de los nobles por este tipo de divertimentos hace que surja un teatro representado en cortes y palacios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Teatro popular que es el que alcanzó mayor éxito, representado en plazas populares y luego en </a:t>
            </a:r>
            <a:r>
              <a:rPr b="0" lang="en-US" sz="2800" spc="-1" strike="noStrike" u="sng">
                <a:solidFill>
                  <a:srgbClr val="374e5f"/>
                </a:solidFill>
                <a:uFillTx/>
                <a:latin typeface="Times New Roman"/>
              </a:rPr>
              <a:t>corrales de comedia</a:t>
            </a:r>
            <a:r>
              <a:rPr b="0" lang="en-US" sz="2800" spc="-1" strike="noStrike">
                <a:solidFill>
                  <a:srgbClr val="374e5f"/>
                </a:solidFill>
                <a:latin typeface="Times New Roman"/>
              </a:rPr>
              <a:t>, dirigido a la gran mayoría de público. Es el de más éxito.</a:t>
            </a:r>
            <a:endParaRPr b="0" lang="en-US" sz="28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PEDRO CALDERÓN DE LA BARCA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832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3300"/>
                </a:solidFill>
                <a:latin typeface="Times New Roman"/>
              </a:rPr>
              <a:t>Leer la biografía y los apuntes sobre su trayectoria y su obra de la p. 290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Sigue las innovaciones de la comedia nueva pero las perfecciona. Crea un teatro que profundiza en los grandes problemas filosóficos y morales de su época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Simplifica la trama, disminuye el número de personajes y da más peso a los protagonistas, se centra en el contenido reflexivo, hace más complejos el lenguaje y el estilo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Sus obras más importantes son: </a:t>
            </a:r>
            <a:r>
              <a:rPr b="0" i="1" lang="ca-ES" sz="2200" spc="-1" strike="noStrike">
                <a:solidFill>
                  <a:srgbClr val="374e5f"/>
                </a:solidFill>
                <a:latin typeface="Times New Roman"/>
              </a:rPr>
              <a:t>La vida es sueño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</a:t>
            </a:r>
            <a:r>
              <a:rPr b="0" i="1" lang="ca-ES" sz="2200" spc="-1" strike="noStrike">
                <a:solidFill>
                  <a:srgbClr val="374e5f"/>
                </a:solidFill>
                <a:latin typeface="Times New Roman"/>
              </a:rPr>
              <a:t> La dama duende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</a:t>
            </a:r>
            <a:r>
              <a:rPr b="0" i="1" lang="ca-ES" sz="2200" spc="-1" strike="noStrike">
                <a:solidFill>
                  <a:srgbClr val="374e5f"/>
                </a:solidFill>
                <a:latin typeface="Times New Roman"/>
              </a:rPr>
              <a:t>El alcalde de Zalamea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 y </a:t>
            </a:r>
            <a:r>
              <a:rPr b="0" i="1" lang="ca-ES" sz="2200" spc="-1" strike="noStrike">
                <a:solidFill>
                  <a:srgbClr val="374e5f"/>
                </a:solidFill>
                <a:latin typeface="Times New Roman"/>
              </a:rPr>
              <a:t>El gran teatro del mundo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 (auto sacramental)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8281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4e5f"/>
                </a:solidFill>
                <a:latin typeface="Times New Roman"/>
              </a:rPr>
              <a:t>Diapositivas nº 22-27 extraídas de: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09e4a"/>
                </a:solidFill>
                <a:uFillTx/>
                <a:latin typeface="Times New Roman"/>
                <a:hlinkClick r:id="rId2"/>
              </a:rPr>
              <a:t>http://www.slideshare.net/profelengua/el-barroco-54396/1</a:t>
            </a:r>
            <a:endParaRPr b="0" lang="en-US" sz="25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374e5f"/>
                </a:solidFill>
                <a:latin typeface="Times New Roman"/>
              </a:rPr>
              <a:t>LUGARES DE REPRESENTACIÓN</a:t>
            </a:r>
            <a:endParaRPr b="0" lang="en-US" sz="36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Se desarrolla en varios ámbitos: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 u="sng">
                <a:solidFill>
                  <a:srgbClr val="374e5f"/>
                </a:solidFill>
                <a:uFillTx/>
                <a:latin typeface="Times New Roman"/>
              </a:rPr>
              <a:t>Corral de comedias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que se perfecciona durante este siglo. Acoge un </a:t>
            </a:r>
            <a:r>
              <a:rPr b="1" lang="ca-ES" sz="2200" spc="-1" strike="noStrike">
                <a:solidFill>
                  <a:srgbClr val="374e5f"/>
                </a:solidFill>
                <a:latin typeface="Times New Roman"/>
              </a:rPr>
              <a:t>teatro popular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 representado por diversas compañías de actores. Los espectadores pagan por asistir a las funciones, que se realizan de manera regular durante la temporada teatral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 u="sng">
                <a:solidFill>
                  <a:srgbClr val="374e5f"/>
                </a:solidFill>
                <a:uFillTx/>
                <a:latin typeface="Times New Roman"/>
              </a:rPr>
              <a:t>Palacios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acogen un tipo de </a:t>
            </a:r>
            <a:r>
              <a:rPr b="1" lang="ca-ES" sz="2200" spc="-1" strike="noStrike">
                <a:solidFill>
                  <a:srgbClr val="374e5f"/>
                </a:solidFill>
                <a:latin typeface="Times New Roman"/>
              </a:rPr>
              <a:t>teatro cortesano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subvencionado por el rey o los nobles. Goza de mayores medios escenográficos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 u="sng">
                <a:solidFill>
                  <a:srgbClr val="374e5f"/>
                </a:solidFill>
                <a:uFillTx/>
                <a:latin typeface="Times New Roman"/>
              </a:rPr>
              <a:t>Plazas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se ponía un carro y se representaban </a:t>
            </a:r>
            <a:r>
              <a:rPr b="1" lang="ca-ES" sz="2200" spc="-1" strike="noStrike">
                <a:solidFill>
                  <a:srgbClr val="374e5f"/>
                </a:solidFill>
                <a:latin typeface="Times New Roman"/>
              </a:rPr>
              <a:t>autos sacramentales</a:t>
            </a:r>
            <a:r>
              <a:rPr b="0" lang="ca-ES" sz="2200" spc="-1" strike="noStrike">
                <a:solidFill>
                  <a:srgbClr val="374e5f"/>
                </a:solidFill>
                <a:latin typeface="Times New Roman"/>
              </a:rPr>
              <a:t>, géneros menores, herederos del teatro religioso del siglo XVI. Se vinculaba con la festividad del Corpus y estaba sufragado por los ayuntamientos.</a:t>
            </a:r>
            <a:endParaRPr b="0" lang="en-US" sz="22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TEATRO POPULAR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Este teatro popular se desarrollaba al aire libre, los actores eran ambulantes y el </a:t>
            </a:r>
            <a:r>
              <a:rPr b="0" i="1" lang="en-US" sz="3200" spc="-1" strike="noStrike">
                <a:solidFill>
                  <a:srgbClr val="374e5f"/>
                </a:solidFill>
                <a:latin typeface="Times New Roman"/>
              </a:rPr>
              <a:t>atrezzo </a:t>
            </a: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rudimentario.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74e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A medida que fue creciendo en demanda aparecen unas estructuras donde empezaran a escenificar, se trata de los </a:t>
            </a:r>
            <a:r>
              <a:rPr b="0" lang="en-US" sz="3200" spc="-1" strike="noStrike" u="sng">
                <a:solidFill>
                  <a:srgbClr val="374e5f"/>
                </a:solidFill>
                <a:uFillTx/>
                <a:latin typeface="Times New Roman"/>
              </a:rPr>
              <a:t>corrales de comedias</a:t>
            </a:r>
            <a:r>
              <a:rPr b="0" lang="en-US" sz="3200" spc="-1" strike="noStrike">
                <a:solidFill>
                  <a:srgbClr val="374e5f"/>
                </a:solidFill>
                <a:latin typeface="Times New Roman"/>
              </a:rPr>
              <a:t>. Se trataba del patio central (patio de luces) que resultaba de la unión de varios edificios. Ahí se representaba:</a:t>
            </a:r>
            <a:endParaRPr b="0" lang="en-US" sz="3200" spc="-1" strike="noStrike">
              <a:solidFill>
                <a:srgbClr val="374e5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0920" y="476280"/>
            <a:ext cx="52657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961920"/>
            <a:ext cx="8353440" cy="48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533080" cy="46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32000" y="295200"/>
            <a:ext cx="6408720" cy="628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46:04Z</dcterms:created>
  <dc:creator>amanda</dc:creator>
  <dc:description/>
  <dc:language>en-US</dc:language>
  <cp:lastModifiedBy>RUTHRAMON</cp:lastModifiedBy>
  <dcterms:modified xsi:type="dcterms:W3CDTF">2008-06-03T18:06:58Z</dcterms:modified>
  <cp:revision>10</cp:revision>
  <dc:subject/>
  <dc:title>Tema 18: El teatro Barroco</dc:title>
</cp:coreProperties>
</file>